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EB8-9D7E-4224-B916-1646B20C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CF4-14D9-47C2-ABBE-3F50F204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BA4-FD4B-4292-8C3E-F3DC71A2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FFB-94AD-4F6D-ACEF-383F176A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FB0-167B-47D5-A67C-11E76C57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5F1-1BA7-4A43-A1AB-792DA415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371-F58B-47C8-94B0-EE070EE3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D18-3C36-4E99-AB64-2380744D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3F8-4906-483D-A607-55292DF9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8D3-F4AF-4AE1-8094-415B5669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D22-C4C4-4878-B6F3-A631EAA5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3F3-6632-4A79-A88B-8EFFD358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7F1D-3C10-4B3C-AA69-6FB19208644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udience and 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600200"/>
            <a:ext cx="181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eader or liste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im in writing, e.g. to inform, to shock, to entertain, to express a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2-05T14:14:15Z</dcterms:modified>
  <cp:revision>69</cp:revision>
  <dc:subject/>
  <dc:title>La Belle Dame Sans Merci</dc:title>
</cp:coreProperties>
</file>